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4069-2351-4042-91E4-F816ED39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B66D-EFB9-40C7-9567-3F82F726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8EA0-0B4C-44A3-BE61-420C1289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DB07-CF34-4440-B1AC-7C81FB25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08E4-05C8-4318-8B09-A492A644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F0AD-065A-4BFB-831F-2DB7FE17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40FC-404D-475E-913C-9DF3B315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0F5-7C64-4C28-ABFF-7EC5373E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86DB-82ED-4939-B86A-18DB5C43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A78A-2B2A-41BA-A1F1-BDB17843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7502-5807-40DB-96D2-2491F929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C731-C98C-4C40-9F68-3855A89B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6447-5D83-47FD-93A1-93ADA849B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92760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duplicated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gregation consist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14400" y="1192320"/>
          <a:ext cx="7620120" cy="55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92320"/>
                    <a:ext cx="7620120" cy="55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8-01-31T17:52:31Z</dcterms:modified>
  <cp:revision>2</cp:revision>
  <dc:subject/>
  <dc:title>Dimension aggregation</dc:title>
</cp:coreProperties>
</file>